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40A8-2573-4213-9433-85535BBE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D359-0DD5-4349-8C11-43647C18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41CF-6D18-4BCB-B6FD-2FFCD765F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7596-AC2C-4EF0-BD3C-E813A5CAE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9E96-8549-4D2B-B0BF-2856B9C0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FE20-4E50-46F4-83A1-C1569333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1A27-64CE-4AC7-8BA6-13BC8434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475B-EE4A-463D-9EDC-72A21EEF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8713-F13A-4C70-9D45-F5448859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504F-6A90-40FE-BCE8-A81A5E83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5D36-4427-40A7-8EEB-6448B3BF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97CE-6527-4195-9BDD-428AE5FE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255D-B0A3-40A0-B208-7B3C341E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FF76-69AF-4E94-A6E0-59C38FFC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D4A2-4DD8-42E2-B7D2-7878C4B1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F1C2-6C07-4AC5-9700-BBCF1681C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F352-9004-4DE4-A67C-15F78C94D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335A-C999-45FC-9394-E42C9020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95BB-2ED4-4491-9DF6-C128326B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36E4-3E1F-4324-A1CD-8D49F499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7AA3-A44F-43DC-851D-80391292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2457-2BE7-4390-BC6A-99C83656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E5FF-2478-4A44-B8C3-F3473DE0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A1E5-FF58-4087-A7C6-AB5609A7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FC6B-D9C3-4EDB-9CEF-72E6FC2585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92B2-80DC-419E-BDE0-3D98B03962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Event_(probability_theory)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eal_number" TargetMode="External"/><Relationship Id="rId2" Type="http://schemas.openxmlformats.org/officeDocument/2006/relationships/slide" Target=""/><Relationship Id="rId3" Type="http://schemas.openxmlformats.org/officeDocument/2006/relationships/hyperlink" Target="http://etc.usf.edu/clipart/41600/41669/-10-10x5_41669.htm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Eras Bold ITC"/>
              </a:rPr>
              <a:t>                    </a:t>
            </a:r>
            <a:r>
              <a:rPr b="1" lang="en-US" sz="4400" spc="-1" strike="noStrike">
                <a:solidFill>
                  <a:srgbClr val="d9d9ff"/>
                </a:solidFill>
                <a:latin typeface="Eras Bold ITC"/>
              </a:rPr>
              <a:t>Vocab.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11752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ff"/>
                </a:solidFill>
                <a:latin typeface="Eras Bold ITC"/>
              </a:rPr>
              <a:t>  </a:t>
            </a:r>
            <a:r>
              <a:rPr b="0" lang="en-US" sz="3200" spc="-1" strike="noStrike">
                <a:solidFill>
                  <a:srgbClr val="d9d9ff"/>
                </a:solidFill>
                <a:latin typeface="Eras Bold ITC"/>
              </a:rPr>
              <a:t>By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ff"/>
                </a:solidFill>
                <a:latin typeface="Eras Bold ITC"/>
              </a:rPr>
              <a:t>              </a:t>
            </a:r>
            <a:r>
              <a:rPr b="0" lang="en-US" sz="3200" spc="-1" strike="noStrike">
                <a:solidFill>
                  <a:srgbClr val="d9d9ff"/>
                </a:solidFill>
                <a:latin typeface="Eras Bold ITC"/>
              </a:rPr>
              <a:t>LaRonda El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ff"/>
                </a:solidFill>
                <a:latin typeface="Eras Bold ITC"/>
              </a:rPr>
              <a:t>                              </a:t>
            </a:r>
            <a:r>
              <a:rPr b="0" lang="en-US" sz="3200" spc="-1" strike="noStrike">
                <a:solidFill>
                  <a:srgbClr val="d9d9ff"/>
                </a:solidFill>
                <a:latin typeface="Eras Bold ITC"/>
              </a:rPr>
              <a:t>&amp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ff"/>
                </a:solidFill>
                <a:latin typeface="Eras Bold ITC"/>
              </a:rPr>
              <a:t>                     </a:t>
            </a:r>
            <a:r>
              <a:rPr b="0" lang="en-US" sz="3200" spc="-1" strike="noStrike">
                <a:solidFill>
                  <a:srgbClr val="d9d9ff"/>
                </a:solidFill>
                <a:latin typeface="Eras Bold ITC"/>
              </a:rPr>
              <a:t>Robert W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Eras Bold ITC"/>
              </a:rPr>
              <a:t>            </a:t>
            </a:r>
            <a:r>
              <a:rPr b="1" lang="en-US" sz="5400" spc="-1" strike="noStrike">
                <a:solidFill>
                  <a:srgbClr val="d9d9ff"/>
                </a:solidFill>
                <a:latin typeface="Eras Bold ITC"/>
              </a:rPr>
              <a:t>Fractions !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52280" y="2514600"/>
            <a:ext cx="8839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ff"/>
                </a:solidFill>
                <a:latin typeface="Eras Bold ITC"/>
              </a:rPr>
              <a:t>A fraction is a number that can represent part of a who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495680" y="3124080"/>
            <a:ext cx="1648080" cy="1791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447920" y="4343400"/>
            <a:ext cx="1787400" cy="1943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086600" y="4876920"/>
            <a:ext cx="16477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Eras Bold ITC"/>
              </a:rPr>
              <a:t>               </a:t>
            </a:r>
            <a:r>
              <a:rPr b="1" lang="en-US" sz="4400" spc="-1" strike="noStrike">
                <a:solidFill>
                  <a:srgbClr val="d9d9ff"/>
                </a:solidFill>
                <a:latin typeface="Eras Bold ITC"/>
              </a:rPr>
              <a:t>Probability !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ff"/>
                </a:solidFill>
                <a:latin typeface="Eras Bold ITC"/>
              </a:rPr>
              <a:t>is a way of expressing knowledge or belief that an </a:t>
            </a:r>
            <a:r>
              <a:rPr b="0" lang="en-US" sz="3200" spc="-1" strike="noStrike" u="sng">
                <a:solidFill>
                  <a:srgbClr val="99f3ff"/>
                </a:solidFill>
                <a:uFillTx/>
                <a:latin typeface="Eras Bold ITC"/>
                <a:hlinkClick r:id="rId1"/>
              </a:rPr>
              <a:t>event</a:t>
            </a:r>
            <a:r>
              <a:rPr b="0" lang="en-US" sz="3200" spc="-1" strike="noStrike" u="sng">
                <a:solidFill>
                  <a:srgbClr val="d9d9ff"/>
                </a:solidFill>
                <a:uFillTx/>
                <a:latin typeface="Eras Bold ITC"/>
              </a:rPr>
              <a:t> will occur or has occurred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1666800" cy="2057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038480" y="4724280"/>
            <a:ext cx="1481400" cy="1828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324480" y="3124080"/>
            <a:ext cx="19749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           </a:t>
            </a: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Number Lines !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ff"/>
                </a:solidFill>
                <a:latin typeface="Eras Bold ITC"/>
              </a:rPr>
              <a:t>is a picture of a straight line on which every point is assumed to correspond to a </a:t>
            </a:r>
            <a:r>
              <a:rPr b="0" lang="en-US" sz="3200" spc="-1" strike="noStrike" u="sng">
                <a:solidFill>
                  <a:srgbClr val="99f3ff"/>
                </a:solidFill>
                <a:uFillTx/>
                <a:latin typeface="Eras Bold ITC"/>
                <a:hlinkClick r:id="rId1"/>
              </a:rPr>
              <a:t>real number</a:t>
            </a:r>
            <a:r>
              <a:rPr b="0" lang="en-US" sz="3200" spc="-1" strike="noStrike" u="sng">
                <a:solidFill>
                  <a:srgbClr val="d9d9ff"/>
                </a:solidFill>
                <a:uFillTx/>
                <a:latin typeface="Eras Bold ITC"/>
              </a:rPr>
              <a:t> and every real number to a point.</a:t>
            </a:r>
            <a:r>
              <a:rPr b="0" lang="en-US" sz="3200" spc="-1" strike="noStrike" u="sng">
                <a:solidFill>
                  <a:srgbClr val="99f3ff"/>
                </a:solidFill>
                <a:uFillTx/>
                <a:latin typeface="Eras Bold ITC"/>
                <a:hlinkClick r:id="rId2" action="ppaction://hlinksldjump"/>
              </a:rPr>
              <a:t>[</a:t>
            </a:r>
            <a:r>
              <a:rPr b="0" lang="en-US" sz="3200" spc="-1" strike="noStrike" u="sng">
                <a:solidFill>
                  <a:srgbClr val="d9d9ff"/>
                </a:solidFill>
                <a:uFillTx/>
                <a:latin typeface="Eras Bold IT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86400" y="4114800"/>
            <a:ext cx="2066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4:05:01Z</dcterms:created>
  <dc:creator>laronda.elam</dc:creator>
  <dc:description/>
  <dc:language>en-US</dc:language>
  <cp:lastModifiedBy>laronda.elam</cp:lastModifiedBy>
  <dcterms:modified xsi:type="dcterms:W3CDTF">2010-11-23T14:26:32Z</dcterms:modified>
  <cp:revision>3</cp:revision>
  <dc:subject/>
  <dc:title>            Fractions !</dc:title>
</cp:coreProperties>
</file>